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28760"/>
        <c:axId val="40908813"/>
      </c:barChart>
      <c:catAx>
        <c:axId val="33828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8813"/>
        <c:crosses val="autoZero"/>
        <c:auto val="1"/>
        <c:lblAlgn val="ctr"/>
        <c:lblOffset val="100"/>
        <c:noMultiLvlLbl val="0"/>
      </c:catAx>
      <c:valAx>
        <c:axId val="40908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28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FBC-0E07-4592-B257-F025356E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B67-E3C2-4C87-A38B-38D7C77C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C57-4D93-4975-A508-685DD46F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34D-1B98-4159-B84D-918AC83C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CAF-4E44-4453-96DC-10E4247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565-2EBC-4483-B2BA-78499A10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AB0-1DB2-42DD-AE0A-CB0E7AB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9AC-0DBC-4FF2-A032-6403ABE2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2D7-DD58-464D-897F-B567F23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B0B-2BB9-4D10-992C-31B6AFA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B13-103E-479E-B76C-D04A4FF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27F-44F3-4EE3-8402-862CAC9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A6CB0-6041-49CD-8608-2E5519524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