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2530"/>
        <c:axId val="69573302"/>
      </c:barChart>
      <c:catAx>
        <c:axId val="27032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73302"/>
        <c:crosses val="autoZero"/>
        <c:auto val="1"/>
        <c:lblAlgn val="ctr"/>
        <c:lblOffset val="100"/>
        <c:noMultiLvlLbl val="0"/>
      </c:catAx>
      <c:valAx>
        <c:axId val="6957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2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DB4-818E-46AE-82F6-360DC2CF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858-CEF6-4DA4-A291-585CE4D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DE4-25BA-4732-A4D8-9C2DB4FC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E89-A7E1-4236-A623-27F65911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7BA-E878-4CFA-9483-6E80F9A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035-0339-408B-8ACF-D068A921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E58-5FEA-4077-B9F5-D798790D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47-9908-412C-BA91-6DA3E24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DCE-EC93-4F56-986B-965CEFB1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5E6-FE71-41CA-8549-01AC300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35B-8D61-439B-A3B9-6FFAA16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B0E-BB61-46D1-80C2-42CA542C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50BBC-DCA4-49C3-8FB0-95C79B2253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