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06032"/>
        <c:axId val="36774467"/>
      </c:barChart>
      <c:catAx>
        <c:axId val="57806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74467"/>
        <c:crosses val="autoZero"/>
        <c:auto val="1"/>
        <c:lblAlgn val="ctr"/>
        <c:lblOffset val="100"/>
        <c:noMultiLvlLbl val="0"/>
      </c:catAx>
      <c:valAx>
        <c:axId val="36774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6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4C0-428B-4F57-80D4-F666AFE3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345-9946-4DD6-8521-8F3113F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CF7-9ED5-4CF4-AC80-5074707B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108-D3EB-402D-A508-14FE08C1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459-4058-46D2-82C4-D16982AC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554-F3CE-4E8B-B7CE-BCB21F26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73C-7B8A-419F-911B-FA3F2DC1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3EE-F90C-4E2D-8D7E-A8F0E4B7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41E-695B-4B36-9F1C-57FE3974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B76-DD7C-46EB-9A77-2E4C43B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5AE-1C54-45F9-BB24-2F10E3C5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5AB-6FE3-4E04-A1AD-5F844AF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0702D-D672-48DB-876B-100D3D77E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