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71698"/>
        <c:axId val="75100532"/>
      </c:barChart>
      <c:catAx>
        <c:axId val="71271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00532"/>
        <c:crosses val="autoZero"/>
        <c:auto val="1"/>
        <c:lblAlgn val="ctr"/>
        <c:lblOffset val="100"/>
        <c:noMultiLvlLbl val="0"/>
      </c:catAx>
      <c:valAx>
        <c:axId val="75100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71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BBA-57F0-460B-991E-B64ECA97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D11-DFF5-4671-A774-2ED103EB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282-7732-48F4-A243-F0DF5B29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BA7-6C2C-4F54-BF3B-2BB959AC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903-0347-4BAA-8B7E-91029641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362-4EC5-459D-B9CD-1874B5D7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1AC-9C55-437A-9070-29808FCA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8A8-D754-48A0-9CFD-26601E24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6DC-E8EC-49AC-87A9-92970B16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82C-2825-4548-A6AA-B0D2F76F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E22-94FD-4FC0-BA24-B784AE8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F99-705D-49DC-AD9D-82C451DC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45ADD-2E98-4D5D-9FED-8A70746F2B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